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EC8-99B1-4A54-AE35-86393B5F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122-CBBC-4A61-9DAA-A7BCB52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DCA-3225-47E6-B243-0DD255B7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841-0DF9-4D41-A617-C217AE28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7E64-8F5F-4017-A581-52DA60CC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05BB-67D0-405C-9A95-6EE3C91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C7F-CEB5-416B-9104-BA2A2B02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AB8-4B1F-4960-9145-53A8BF9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782-E86F-48A2-B225-723FC19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EC1B-86D4-4190-A443-CE8CB8EB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4FDC-9CFB-4401-9D4C-5FFEE27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49E-215A-435F-A980-87EB9D3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A489-8E3C-4F03-904C-2DAB98E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6D0-603F-4C2B-A8C4-99446D9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DAD7-EE86-40A7-9F5B-7B86612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0D0A-67D2-4C1D-B2E7-9C70CF5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8E24-8892-4183-BC13-900E95F1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F81-CCAF-4B71-8D8A-6F361BBA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B54-36FF-41E0-BD27-144A6B5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286-F9B0-42D9-B5BD-0D0F64E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EE5-0DC6-4EF1-9F77-FFE86E69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563-3E31-417D-86BB-AC2E266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012-6965-4018-A6AA-1B769A8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DF9-8E80-4B61-9309-C4072F4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3C61-0ED8-4188-B58E-508D21E2C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9117-6BF0-455A-BF71-A9899FDB8AC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5380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ffffcc"/>
                </a:solidFill>
                <a:latin typeface="Arial"/>
              </a:rPr>
              <a:t>Африк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World_Africa_Shakawe___Botswana___Africa_008883_"/>
          <p:cNvPicPr/>
          <p:nvPr/>
        </p:nvPicPr>
        <p:blipFill>
          <a:blip r:embed="rId1"/>
          <a:stretch/>
        </p:blipFill>
        <p:spPr>
          <a:xfrm>
            <a:off x="250920" y="1025640"/>
            <a:ext cx="8421480" cy="544644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ig_1199867497_00096bb163c308ed580d39"/>
          <p:cNvPicPr/>
          <p:nvPr/>
        </p:nvPicPr>
        <p:blipFill>
          <a:blip r:embed="rId1"/>
          <a:stretch/>
        </p:blipFill>
        <p:spPr>
          <a:xfrm>
            <a:off x="539640" y="549360"/>
            <a:ext cx="381636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k048"/>
          <p:cNvPicPr/>
          <p:nvPr/>
        </p:nvPicPr>
        <p:blipFill>
          <a:blip r:embed="rId2"/>
          <a:stretch/>
        </p:blipFill>
        <p:spPr>
          <a:xfrm>
            <a:off x="4643280" y="549360"/>
            <a:ext cx="4248360" cy="53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фрику населяют сотни больших и малых народов, многие из них проживают в нескольких странах. Представители кочевых племён народностей мигрируют по территории других государств. Наиболее крупные из африканских этносов на севере континента – арабы(египетские, алжирские, марокканские); в Тропической Африке – йоруба и хауса, а также амхарая, оморо; в Центральной и Южной Африке – банту. Их структура довольно сложна. Банту, например, включает более 40 народностей, каждая из которых насчитывает свыше 1млн. человек. В африканских странах немало выходцев из европейских и азиатских государств. Особенно велика их доля в Южно – Африканской республике – свыше 5 млн. человек. Более половины населения континента проживает в сельской местности и занято земледелием и скотоводств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350px-Ghana-2"/>
          <p:cNvPicPr/>
          <p:nvPr/>
        </p:nvPicPr>
        <p:blipFill>
          <a:blip r:embed="rId1"/>
          <a:stretch/>
        </p:blipFill>
        <p:spPr>
          <a:xfrm>
            <a:off x="0" y="1125360"/>
            <a:ext cx="4140360" cy="367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1010096"/>
          <p:cNvPicPr/>
          <p:nvPr/>
        </p:nvPicPr>
        <p:blipFill>
          <a:blip r:embed="rId2"/>
          <a:stretch/>
        </p:blipFill>
        <p:spPr>
          <a:xfrm>
            <a:off x="4211640" y="549360"/>
            <a:ext cx="4932360" cy="568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обое влияние на архитектуру относительно молодых столиц африканских государств оказала колониальная эпоха. Она оставила после себя красочные, порой помпезные ансамбли дворцовых зданий, выполненные «штучно», в тропическом модерне, например, многочисленные особняки колониальной администрации в Луанде(Ангола) или Мапуту(Мозамбик), в Алжире(Алжир) или Дакаре(Сенегал)…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488745"/>
          <p:cNvPicPr/>
          <p:nvPr/>
        </p:nvPicPr>
        <p:blipFill>
          <a:blip r:embed="rId1"/>
          <a:stretch/>
        </p:blipFill>
        <p:spPr>
          <a:xfrm>
            <a:off x="18352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8HI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627280" y="475920"/>
            <a:ext cx="6059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гипет – страна оранжевых закатов, обволакивающих ветров с запахом пустыни, невероятной красоты подводного царства Красного моря, земля пирамид и фараонов до корней пропитанная духом Африки…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4" descr="16"/>
          <p:cNvPicPr/>
          <p:nvPr/>
        </p:nvPicPr>
        <p:blipFill>
          <a:blip r:embed="rId1"/>
          <a:stretch/>
        </p:blipFill>
        <p:spPr>
          <a:xfrm>
            <a:off x="250920" y="2924280"/>
            <a:ext cx="5545080" cy="39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19433331_1"/>
          <p:cNvPicPr/>
          <p:nvPr/>
        </p:nvPicPr>
        <p:blipFill>
          <a:blip r:embed="rId1"/>
          <a:stretch/>
        </p:blipFill>
        <p:spPr>
          <a:xfrm>
            <a:off x="0" y="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gypt04"/>
          <p:cNvPicPr/>
          <p:nvPr/>
        </p:nvPicPr>
        <p:blipFill>
          <a:blip r:embed="rId2"/>
          <a:stretch/>
        </p:blipFill>
        <p:spPr>
          <a:xfrm>
            <a:off x="4067280" y="2997360"/>
            <a:ext cx="5076720" cy="386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Cities__003860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shar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фрика – единственный материк, который экватор пересекает почти посередин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лощадь Африки 29, 2 млн квадратных км. Материк омывается Атлантическим и Индийским океанами, Средиземным и Красным морями. С Евразией соединен Суэцким перешейком. От Европы отделен Гибралтарским проливом, от Азии – Суэцким каналом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x_ee2efb9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egypt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x_beac5b04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ЕЦ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фрика уникальная своей сказочной богатой природой: здесь буйная тропическая растительность соседствует с бескрайней выжженной солнцем пустыней. В многом это континент загадка: современная цивилизация уживает вместе с язычеством, архаика неистова сопротивляется прогрессу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0343543_20080730_afrika10_copy"/>
          <p:cNvPicPr/>
          <p:nvPr/>
        </p:nvPicPr>
        <p:blipFill>
          <a:blip r:embed="rId1"/>
          <a:stretch/>
        </p:blipFill>
        <p:spPr>
          <a:xfrm>
            <a:off x="395280" y="333360"/>
            <a:ext cx="3924360" cy="596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eo_afrika02"/>
          <p:cNvPicPr/>
          <p:nvPr/>
        </p:nvPicPr>
        <p:blipFill>
          <a:blip r:embed="rId2"/>
          <a:stretch/>
        </p:blipFill>
        <p:spPr>
          <a:xfrm>
            <a:off x="5076720" y="333360"/>
            <a:ext cx="3598920" cy="5975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53 африканских государствах проживает порядка 700 млн. человек, или около 15% населения планеты. Африку принято делить на три части: Северная, или арабская, Тропическая (субсахарская, расположенная южнее пустыни Сахары) и Южная. Каждый регион имеет свои неповторимые природно-климатические характеристики, культурно-национальные особенности отличённый от других уровень экономического развити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00g026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geo_afrika01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612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1204773724_afrika"/>
          <p:cNvPicPr/>
          <p:nvPr/>
        </p:nvPicPr>
        <p:blipFill>
          <a:blip r:embed="rId2"/>
          <a:stretch/>
        </p:blipFill>
        <p:spPr>
          <a:xfrm>
            <a:off x="4495680" y="333360"/>
            <a:ext cx="4397400" cy="612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фрика – самый жаркий континент мира. Её центральная часть покрыта экваториальными лесами. По мере удаления от экватора на север и юг влажные лесные зоны сменяются саванной – обширными степями с высокой травой в несколько метров. Саванна постепенно переходит в песчаную, каменистую пустыню, лишённую воды. Растительный и животный мир Тропической и Южной Африки чрезвычайно богат и разнообразен, многие воды эндемичны. Их сохранению служат созданные в многих странах национальные парки и заповедники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фрика по праву считается кладовой мира: в неё недрах обнаружены промышленные залежи стольких металлов, что могли бы заполнить всю таблицу Менделеева. Главные богатства Африки – алмазы, золото, уран и другие редкоземельные металлы, которые пользуются большим спросом Ра мировом рынке, а также нефть и газ, ценные породы древесины, продукты тропического земледелия (хлопок, кофе, чай, экзотические фрукты).значительными гидроэнергоресурсами располагают её полноводные реки прибрежные воды изобилуют рыбой и другими дарами мор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54:09Z</dcterms:created>
  <dc:creator>UserNEW</dc:creator>
  <dc:description/>
  <dc:language>en-US</dc:language>
  <cp:lastModifiedBy>Owner</cp:lastModifiedBy>
  <dcterms:modified xsi:type="dcterms:W3CDTF">2011-07-21T01:33:34Z</dcterms:modified>
  <cp:revision>4</cp:revision>
  <dc:subject/>
  <dc:title>Африка</dc:title>
</cp:coreProperties>
</file>